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E8B7-6F8D-4445-95A7-D4F6F7432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A43-3B2F-4BB2-942C-88E92532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66B7-3AF4-4B2C-893B-5C36946D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4584-82F8-4DB7-A6F6-221BB4BF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DAC6-F9DD-4A5D-9C30-D8284EAB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B213-0607-4827-829E-FE2F2C34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589F-18C7-4CC1-B6FF-4999427B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E4CA-B7FB-4E91-901F-739DDDAA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E830-8D5F-4652-B3B7-E42E8E17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DEE6-AA9E-4032-872C-BA27A1FA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083A-DD40-4481-A744-742638D5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D858-F15D-4933-9946-08DB0C82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898-5471-46BA-A32B-C8139E76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190F-439C-421B-9627-6EF7FF4D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70D3-8CF0-4583-BA10-6214B83B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E0A9-5140-4CF3-A20D-49A2F8CE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CBA4-CCC7-4279-9BF9-422984D6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C1CC-9D63-4769-9B8B-5F0C69FE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14A-2844-4E97-A81E-70944711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3274-7760-4902-BE5C-5C5CF3BC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1F9C-AAED-448C-BE2B-83DE5583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209-1F91-4A5B-98F0-54C6E52B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09F8-2FBA-408D-862D-6D5F7CE0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9DD4-73D1-4F28-827E-51CEEB6B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A74E-C21A-4AE5-AE17-F412FE17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8887-4C31-410A-9AD2-3ADD58D04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7B74-0868-4E28-8349-5B6B680BAB69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UBLE REPLAC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9144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 LABORATORY EXAMINATION OF DOUBLE REPLACEMENT REAC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5" descr="9"/>
          <p:cNvPicPr/>
          <p:nvPr/>
        </p:nvPicPr>
        <p:blipFill>
          <a:blip r:embed="rId1"/>
          <a:stretch/>
        </p:blipFill>
        <p:spPr>
          <a:xfrm>
            <a:off x="685800" y="1943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DD 1 GRAM OF EACH “SALT” TO 20 mL OF WATER IN TWO SEPARATE BEAKERS AND DISSOLVE, THEN MIX SOLUTIONS IN COMMON BEAKE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 CONTINU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POUR THE CONTENTS OF THE BEAKER THROUGH THE FILTER PAPER FUNNEL ASSEMBLY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REMEMBER, PRE-MASS THE DRY FILTER PAPER BEFORE FILTERING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ATA AND CONCLU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ONSTRUCT A DATA TABL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ESCRIBE WHY THE LAB RESULTS OCCURRED IN CONCLUS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ALCULATE THEORETICAL YIELD,  THEN PERCENT YIELD AND PERCENT ERROR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CHNICAL WRITING PORTFOLI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RITING FOR A SPECIFIC PURPOS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NO FLOWERY PROSE, GET TO THE POIN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MATH IS A LANGUAGE, CALCULATIONS ARE VITAL TO WRITE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WRITING TO </a:t>
            </a:r>
            <a:r>
              <a:rPr b="1" lang="en-US" sz="4800" spc="-1" strike="noStrike">
                <a:solidFill>
                  <a:srgbClr val="f8f8f8"/>
                </a:solidFill>
                <a:latin typeface="Tahoma"/>
              </a:rPr>
              <a:t>INFORM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, MAKE A DECISION OR LEARN HOW TO DO SOMETHING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UDI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ARGET A SPECIFIC GRO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OUR GROUP IS MIXED AUDIENCE, IF YOU CAN WRITE DIRECTIONS TO PUT A SWING SET TOGETHER YOU CAN WRITE ANYTHIN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E WILL FOLLOW THE PROBLEM, CAUSE, SOLUTION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HIS LENDS ITSELF TO THE LABORATORY ORGANIZA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HOOSE THE DETAIL, AMOUNT OF DESCRIPI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GRAPHICS ENHANCE THE IMPACT OF A PAP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TITLE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. TO THE POINT, DESCRIPTIVE OF THE LAB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NTRODUCTION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STATES CLEARLY THE QUESTION/PROBLEM AND WHY LAB WAS PERFORMED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PERIMENTAL DETAILS/RESUL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: EXPLAINS WHAT YOU DID AND WHY, AND LISTS RESULT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AFE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GOGGLE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HAIR TIED BACK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APRON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CONCLUSIONS &amp; DISCUSSION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ANALYZE THE RESULTS AND EXPLAIN WHAT HAPPENED IN THE LAB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TENSIONS: “REAL WORLD” USES OF THIS REACTION AND LI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ILL 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CKNOWLEDGMEN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WHO CONTRIBUTED TO THE COMPLETION OF THE LAB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REFERENCE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ANY TEXTS OR MATERIAL USED IN THE WRITING OF YOUR PAP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UTS &amp; BOL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PAPER IN BLUE OR BLACK INK OR WORD PROCESS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FRONT OF PAPER ONL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ITLE PAG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RAWINGS/ILLUSTRATIONS REQUIR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GOALPOSTS, GOALPOSTS, GOALPOS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EMICAL THE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RE ARE MANY TYPES DOUBLE REPLACEMENT REACTIONS, SUCH AS ACID-BASE NEUTRALIZATION AND PRECIPITATION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CIPITATE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SE ARE REACTIONS IN WHICH AN INSOLUBLE SOLID IS FORMED AND SETTLES OUT OF SOLUTION, TH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PRECIPITATE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/FORM EQU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 + 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----&gt; </a:t>
            </a: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+  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THE CATIONS “TRADE” PLACE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REA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RITE THE BALANCED REACTION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6699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Na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O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3(aq) 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-----&gt; 2N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CaCO</a:t>
            </a:r>
            <a:r>
              <a:rPr b="1" lang="en-US" sz="5400" spc="-1" strike="noStrike" baseline="-25000">
                <a:solidFill>
                  <a:srgbClr val="0000ff"/>
                </a:solidFill>
                <a:latin typeface="Courier New"/>
              </a:rPr>
              <a:t>3(s)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RINGSTAND/WIRE TRIANGLE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FUNNEL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# 1 WHATMAN FILTER PAPER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BEAKER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FLASK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GLASS STIRRING ROD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DRYING OVEN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G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Na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O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SODIUM CARBONAT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aCl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CALCIUM CHLOR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4:42:34Z</dcterms:created>
  <dc:creator>Graves County High School</dc:creator>
  <dc:description/>
  <dc:language>en-US</dc:language>
  <cp:lastModifiedBy>RomaK</cp:lastModifiedBy>
  <dcterms:modified xsi:type="dcterms:W3CDTF">2015-09-02T05:53:52Z</dcterms:modified>
  <cp:revision>23</cp:revision>
  <dc:subject/>
  <dc:title>DOUBLE REPLACEMENT reaction</dc:title>
</cp:coreProperties>
</file>